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D16-D42D-4AFD-ADE0-6195675B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67A-1A94-4EC5-9B68-9A22C6A9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44F-7405-404E-B3F5-D578A240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AF4-902C-4C6D-A330-18229791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8C8A-99D4-4091-A303-DBBDFDC7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47E3-1288-4C08-8719-4F4EDD06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448B-FC13-4B85-B4A2-3B70CB49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5476-F60E-4C8D-8148-FDAF3CE7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BDAA-7B6C-4C33-8E86-399C797F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0A7-5468-47E1-9C59-C918664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D3C6-C1C9-4EC3-91F4-50EFB3B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CFFE-0137-4F6E-A824-B845E35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62B-4425-495F-A2AD-DF1D0BA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A78-E604-4BCC-94A0-0DB267A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3450-8FA9-4E03-9649-6383A42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128-0321-40C4-99EB-6090046C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BC36-F3EB-4C11-BD16-3A9AD717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73E-23A4-449C-B808-050C77A9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D5E2-2B4C-4199-8CBD-9266C6C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DFD6-E9AD-462A-88AC-F64348F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170-EC86-4503-AD4F-518D7F0E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0E52-08F4-4B6B-A5D0-093530F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F0D-96C0-4B23-8EC0-6EE912C3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EC7-3979-4ABE-A8BD-65D94440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6E65-C482-40F3-8F80-A54596CD12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E56-417E-4BD6-8EBB-CCB3FB5170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1432080" y="2182680"/>
            <a:ext cx="6840360" cy="155412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857160" y="142920"/>
            <a:ext cx="77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МОУ «Сунтарская начальная общеобразовательная школа им. В.Г.Пав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143680" y="5214960"/>
            <a:ext cx="378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абота ученика 3 – 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икифорова 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Руководитель: Васильева Н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3" descr="Лун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"/>
          <p:cNvSpPr/>
          <p:nvPr/>
        </p:nvSpPr>
        <p:spPr>
          <a:xfrm>
            <a:off x="928800" y="2143080"/>
            <a:ext cx="771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зучив литературу  я узнал многое о планете Юпитер. Мне захотелось познать еще больше и разгадывать все новые и новые тайны Вселенной. Ведь во Вселенной – нескончаемое множество галактик, и некоторые из них гораздо больше нашей. Все они состоят из звезд, и – кто знает – может, одна из этих звезд освещает планету, на которой, как на Земле, есть жизнь?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928800" y="8571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3300"/>
                </a:solidFill>
                <a:latin typeface="Calibri"/>
              </a:rPr>
              <a:t>СПАСИБО ЗА ВНИМАНИЕ !</a:t>
            </a:r>
            <a:br>
              <a:rPr sz="54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solar_system2"/>
          <p:cNvPicPr/>
          <p:nvPr/>
        </p:nvPicPr>
        <p:blipFill>
          <a:blip r:embed="rId1"/>
          <a:stretch/>
        </p:blipFill>
        <p:spPr>
          <a:xfrm>
            <a:off x="2500200" y="2000160"/>
            <a:ext cx="4307040" cy="420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143000" y="214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Юпитер – пятая планета Солнеч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11"/>
          <p:cNvPicPr/>
          <p:nvPr/>
        </p:nvPicPr>
        <p:blipFill>
          <a:blip r:embed="rId1"/>
          <a:srcRect l="0" t="25524" r="0" b="19855"/>
          <a:stretch/>
        </p:blipFill>
        <p:spPr>
          <a:xfrm>
            <a:off x="1000080" y="928800"/>
            <a:ext cx="7128000" cy="278604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571680" y="385776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3300"/>
                </a:solidFill>
                <a:uFillTx/>
                <a:latin typeface="Calibri"/>
              </a:rPr>
              <a:t>Юпитер</a:t>
            </a:r>
            <a:r>
              <a:rPr b="0" lang="ru-RU" sz="2000" spc="-1" strike="noStrike">
                <a:solidFill>
                  <a:srgbClr val="dddddd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— пятая планета от Солнца, и самая большая в Солнечной системе. Вес Юпитера в два раза больше веса остальных планет, вместо взятых, и в 1300 раз больше веса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Юпитер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— газовая планета, состоящая преимущественно из водорода, а атмосфера этой планеты помимо водорода и гелия содержит малые количества метана, аммиака и водяного пара. В атмосфере Юпитера расположены длинные слои облаков, благодаря которым планета выглядит полоса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57880" y="435744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7030a0"/>
                </a:solidFill>
                <a:latin typeface="Monotype Corsiva"/>
              </a:rPr>
              <a:t>Юпитер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7" descr="Jupiter"/>
          <p:cNvPicPr/>
          <p:nvPr/>
        </p:nvPicPr>
        <p:blipFill>
          <a:blip r:embed="rId1"/>
          <a:stretch/>
        </p:blipFill>
        <p:spPr>
          <a:xfrm>
            <a:off x="5237280" y="785880"/>
            <a:ext cx="3500280" cy="350028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214200" y="1000080"/>
            <a:ext cx="5072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реднее расстояние от Солнца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778 млн. км (5,203 а.е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Экваториальный радиус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7149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асса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318 масс Зем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ериод вращения вокруг оси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9 ч 55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родолжительность года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11,86 зем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Атмосфера: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89% водорода, 11% гел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Спутников: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16 (Метида, Адрасте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Амальтея, Теба, И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Европа, Ганимед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ллисто, Леда, Гимал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Лиситея, Элара, Ананк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Карме, Пасифе, Синоп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1"/>
          <p:cNvPicPr/>
          <p:nvPr/>
        </p:nvPicPr>
        <p:blipFill>
          <a:blip r:embed="rId1"/>
          <a:srcRect l="0" t="0" r="0" b="16256"/>
          <a:stretch/>
        </p:blipFill>
        <p:spPr>
          <a:xfrm>
            <a:off x="1714680" y="785880"/>
            <a:ext cx="5675040" cy="3287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714240" y="214200"/>
            <a:ext cx="7477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Большое Красное Пят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642960" y="421488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Главная достопримечательность Юпитера – Большое Красное Пятно, овальной формы. Расположена в южной тропической зоне. Его длина – 25000 км. На пятне можно расположить пару шариков, как наша Зем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Это пятно не всегда красное. Иногда оно бледнеет и становится малозаметным. Пятно имеет вихревую структуру и вращается, как циклон в атмосфере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ольшое Красное Пятно – гигантский вихрь в атмосфере планеты, который вращается с периодичностью в ше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5" descr="hbceyj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Мухина\14Юпитер\7466_04060201.jpg"/>
          <p:cNvPicPr/>
          <p:nvPr/>
        </p:nvPicPr>
        <p:blipFill>
          <a:blip r:embed="rId2"/>
          <a:stretch/>
        </p:blipFill>
        <p:spPr>
          <a:xfrm>
            <a:off x="4786200" y="1071720"/>
            <a:ext cx="4143600" cy="4143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714240" y="28584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роение Юпи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00040" y="1214280"/>
            <a:ext cx="407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самом центре планеты есть твердое ядро. Ядро окутано океаном металлического и жидкого водорода. Он кипит, его пары густы. Вокруг него – газовая оболо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пература на поверхности Юпитер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+ 150°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2"/>
          <p:cNvSpPr/>
          <p:nvPr/>
        </p:nvSpPr>
        <p:spPr>
          <a:xfrm>
            <a:off x="2097720" y="357120"/>
            <a:ext cx="58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очему не видны кольца Юпитер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785880" y="1000080"/>
            <a:ext cx="7358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Прежде астрономы знали только одну «окольцованную планету» - Сатурн. Однажды выяснилось, что кольца есть у всех планет-гигантов. Когда космические зонды «Вояджер» приблизились  к Юпитеру они обнаружили тонкое пылевое кольцо. Плотность его была так мала, что оно оказалось прозрачнее стекла. Кольцо состояло из пылинок от 1 до 100 мкм, самые большие пыли толщиной с человеческий вол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2"/>
          <p:cNvPicPr/>
          <p:nvPr/>
        </p:nvPicPr>
        <p:blipFill>
          <a:blip r:embed="rId1"/>
          <a:stretch/>
        </p:blipFill>
        <p:spPr>
          <a:xfrm>
            <a:off x="285840" y="3500280"/>
            <a:ext cx="4105080" cy="30862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4429080" y="62150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«Воядж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Boston\Мои документы\кольцо.jpg"/>
          <p:cNvPicPr/>
          <p:nvPr/>
        </p:nvPicPr>
        <p:blipFill>
          <a:blip r:embed="rId2"/>
          <a:stretch/>
        </p:blipFill>
        <p:spPr>
          <a:xfrm>
            <a:off x="4572000" y="3500280"/>
            <a:ext cx="4352760" cy="1300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357880" y="47862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тография сделана АМС «Галилео» 9 ноября 1999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31"/>
          <p:cNvPicPr/>
          <p:nvPr/>
        </p:nvPicPr>
        <p:blipFill>
          <a:blip r:embed="rId1"/>
          <a:stretch/>
        </p:blipFill>
        <p:spPr>
          <a:xfrm>
            <a:off x="428760" y="500040"/>
            <a:ext cx="4786200" cy="5857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3929040" y="8571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071880" y="571500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лл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857760" y="257184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71484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ан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429000" y="428760"/>
            <a:ext cx="74106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Спутники Юпи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643720" y="1357200"/>
            <a:ext cx="3071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В семье Юпитера 16 спутников, 4 из них очень крупные: 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Ио, Европа, Ганимед, Каллисто.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х</a:t>
            </a:r>
            <a:r>
              <a:rPr b="0" lang="ru-RU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открыл в 1610 году Галилео Галилей испытывая свой первый телеск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00_0"/>
          <p:cNvPicPr/>
          <p:nvPr/>
        </p:nvPicPr>
        <p:blipFill>
          <a:blip r:embed="rId2"/>
          <a:stretch/>
        </p:blipFill>
        <p:spPr>
          <a:xfrm>
            <a:off x="6929280" y="4487760"/>
            <a:ext cx="178596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0" descr="hbceyj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9"/>
          <p:cNvSpPr/>
          <p:nvPr/>
        </p:nvSpPr>
        <p:spPr>
          <a:xfrm>
            <a:off x="3429000" y="3429000"/>
            <a:ext cx="521496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7"/>
          <p:cNvSpPr/>
          <p:nvPr/>
        </p:nvSpPr>
        <p:spPr>
          <a:xfrm>
            <a:off x="3429000" y="285840"/>
            <a:ext cx="5214960" cy="27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"/>
          <p:cNvSpPr/>
          <p:nvPr/>
        </p:nvSpPr>
        <p:spPr>
          <a:xfrm>
            <a:off x="3571920" y="50004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ый большой из спутников —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Ганиме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н повернут к планете всегда одной стороной. Датой  открытия Ганимеда считается 11 января 1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европа"/>
          <p:cNvPicPr/>
          <p:nvPr/>
        </p:nvPicPr>
        <p:blipFill>
          <a:blip r:embed="rId2"/>
          <a:stretch/>
        </p:blipFill>
        <p:spPr>
          <a:xfrm>
            <a:off x="428760" y="3571920"/>
            <a:ext cx="2724120" cy="29304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571920" y="357192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крупный спутник –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Европ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ся поверхность закована в ледяной панцирь. Толщина льда достигает десятки километров. Под ними жидкая вода – оке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открытия Европы - 7 января 1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сделана АМС «Галилео» 7 сентября 1996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3643200" y="20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сделана АМС* «Вояджер-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 июля 1979 с расстояния 1,2 млн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Documents and Settings\Boston\Мои документы\05ast018i.jpg"/>
          <p:cNvPicPr/>
          <p:nvPr/>
        </p:nvPicPr>
        <p:blipFill>
          <a:blip r:embed="rId3"/>
          <a:stretch/>
        </p:blipFill>
        <p:spPr>
          <a:xfrm>
            <a:off x="428760" y="285840"/>
            <a:ext cx="2631960" cy="29289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10"/>
          <p:cNvSpPr/>
          <p:nvPr/>
        </p:nvSpPr>
        <p:spPr>
          <a:xfrm>
            <a:off x="4143240" y="6500880"/>
            <a:ext cx="43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*АМС – автоматическая межпланетная ста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8" descr="hbceyjr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Скругленный прямоугольник 7"/>
          <p:cNvSpPr/>
          <p:nvPr/>
        </p:nvSpPr>
        <p:spPr>
          <a:xfrm>
            <a:off x="3571920" y="3500280"/>
            <a:ext cx="521496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6"/>
          <p:cNvSpPr/>
          <p:nvPr/>
        </p:nvSpPr>
        <p:spPr>
          <a:xfrm>
            <a:off x="3571920" y="285840"/>
            <a:ext cx="5214960" cy="292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"/>
          <p:cNvSpPr/>
          <p:nvPr/>
        </p:nvSpPr>
        <p:spPr>
          <a:xfrm>
            <a:off x="3929040" y="50004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Каллис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меет небольшое каменное ядро, и ледяные мантию и кору; 60% массы спутника — водяной л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открытия Каллисто - 7 января 16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3929040" y="2286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сделана АМС «Вояджер-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 июля 1979 с расстояния 1,2 млн. 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Documents and Settings\Boston\Мои документы\05ast003.jpg"/>
          <p:cNvPicPr/>
          <p:nvPr/>
        </p:nvPicPr>
        <p:blipFill>
          <a:blip r:embed="rId2"/>
          <a:stretch/>
        </p:blipFill>
        <p:spPr>
          <a:xfrm>
            <a:off x="500040" y="428760"/>
            <a:ext cx="2714760" cy="27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Boston\Мои документы\ио.jpg"/>
          <p:cNvPicPr/>
          <p:nvPr/>
        </p:nvPicPr>
        <p:blipFill>
          <a:blip r:embed="rId3"/>
          <a:stretch/>
        </p:blipFill>
        <p:spPr>
          <a:xfrm>
            <a:off x="428760" y="3500280"/>
            <a:ext cx="2786040" cy="2786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3929040" y="357192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Calibri"/>
              </a:rPr>
              <a:t>И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меет железное ядро, над которой располагается расплавленная силикатная мантия и литосфера, состоящая в основном из серы и ее со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та открытия Ио -  7 января 161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тография сделана АМС «Галилео» 3 июля 1999 г. с расстояния 130 тыс.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5:23:54Z</dcterms:created>
  <dc:creator>Boston</dc:creator>
  <dc:description/>
  <dc:language>en-US</dc:language>
  <cp:lastModifiedBy>Boston</cp:lastModifiedBy>
  <dcterms:modified xsi:type="dcterms:W3CDTF">2012-01-16T11:44:33Z</dcterms:modified>
  <cp:revision>57</cp:revision>
  <dc:subject/>
  <dc:title>Слайд 1</dc:title>
</cp:coreProperties>
</file>